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49B9-556F-4CC6-A656-2BBD16564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83C4-2DD4-45BD-B760-F203C7CB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0AF5-11AD-4040-8F55-2FB08E5D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85D5-997E-45D7-AF2B-A58F56AB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F27B-DCAB-4600-934F-E5388C5E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297C-0B80-46AF-8FDC-194C7AA3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5BE4-83BF-4A4E-8EBB-7D007401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7F5F-2323-4F5A-8E89-2A078B41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DB68-4F7F-494C-B4F9-EEEEB04F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8BEF-1B20-4AF5-8B0A-E855E428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8E4A-AEF1-4C8B-BD1C-4A421D80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29CB-77FB-44EB-8F7B-4D4ABDED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BF43-867F-4087-8E8E-5251A98A23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66cc"/>
                </a:solidFill>
                <a:latin typeface="Arial"/>
              </a:rPr>
              <a:t>Толерантност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5444640"/>
            <a:ext cx="640080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ы - разные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о мы – равны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D:\WINDOWS\Users\Aida\Рабочий стол\МОЯ лаборатория\ШАБЛОНЫ\Children _irstock\Children _irstock (3).jpg"/>
          <p:cNvPicPr/>
          <p:nvPr/>
        </p:nvPicPr>
        <p:blipFill>
          <a:blip r:embed="rId2"/>
          <a:stretch/>
        </p:blipFill>
        <p:spPr>
          <a:xfrm>
            <a:off x="6804000" y="333360"/>
            <a:ext cx="208764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«Волшебная лав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39640" y="1484280"/>
            <a:ext cx="7920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рпение, снисходительность, расположенность к другим, чувство юмора, чуткость, доверие, альтруизм, умение владеть собой, доброжелательность, гуманиз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мение слушать, любознательность, способность к сопережив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ета  для тех, кто хочет стать толерант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50920" y="1125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95280" y="1413000"/>
          <a:ext cx="8209080" cy="4906800"/>
        </p:xfrm>
        <a:graphic>
          <a:graphicData uri="http://schemas.openxmlformats.org/drawingml/2006/table">
            <a:tbl>
              <a:tblPr/>
              <a:tblGrid>
                <a:gridCol w="1736640"/>
                <a:gridCol w="6472440"/>
              </a:tblGrid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Понедель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Беседуя с людьми, посмотри им в глаза. Поздоровайся со всем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Втор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Постарайся не навязывать другим собственную волю. Выслушай их мнени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ре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делай для кого-нибудь доброе дело так, чтобы этот человек не узнал, что добро идёт от теб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Четвер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Не проявляй к окружающим такого отношения, которого  ты не хочешь испытывать по отношению к себ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Пят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Постарайся хорошо выглядеть. Говори со всеми тихим голосо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уб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Запиши 5 положительных качеств, характеризующих тебя и твоего друг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Воскресен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йди 3 повода, чтобы сказать спасибо своим домашни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«Дерево толерантност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, по-вашему, надо сделать, чтобы ваша школа стала Пространством толерантности, то есть, чтобы отношения в ней стали как можно более толерантны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«Теперь, когда мы научились летать по воздуху, как птицы,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лавать под водой, как рыбы, нам не хватает только одного: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аучиться жить на земле, как люди»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. Шо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H:\Documents and Settings\Aida\Рабочий стол\толерантность\tolerance.jpg"/>
          <p:cNvPicPr/>
          <p:nvPr/>
        </p:nvPicPr>
        <p:blipFill>
          <a:blip r:embed="rId1"/>
          <a:stretch/>
        </p:blipFill>
        <p:spPr>
          <a:xfrm>
            <a:off x="2340000" y="1844640"/>
            <a:ext cx="4546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74e17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:\Documents and Settings\Aida\Рабочий стол\Рисунок3.jpg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Monotype Corsiva"/>
              </a:rPr>
              <a:t>16 ноябр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Международный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День Толерантност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D:\WINDOWS\Users\Aida\Рабочий стол\МОЯ лаборатория\ШАБЛОНЫ\Children _irstock\Children _irstock (3).jpg"/>
          <p:cNvPicPr/>
          <p:nvPr/>
        </p:nvPicPr>
        <p:blipFill>
          <a:blip r:embed="rId1"/>
          <a:stretch/>
        </p:blipFill>
        <p:spPr>
          <a:xfrm>
            <a:off x="2843280" y="3573360"/>
            <a:ext cx="32400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74e17"/>
                </a:solidFill>
                <a:latin typeface="Arial"/>
              </a:rPr>
              <a:t>Что же такое толерантнос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74e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74e17"/>
                </a:solidFill>
                <a:latin typeface="Arial"/>
              </a:rPr>
              <a:t>Толерантность</a:t>
            </a:r>
            <a:r>
              <a:rPr b="0" lang="ru-RU" sz="3200" spc="-1" strike="noStrike">
                <a:solidFill>
                  <a:srgbClr val="d74e17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о уважение, принятие и правильное понимание богатого многообразия культур нашего мира, форм самовыражения и способов проявления человеческой индивидуаль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Толерантность на разных языка ми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920" y="980640"/>
            <a:ext cx="8447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tolerance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французский) – отношение, при котором допускается, что другие могут думать или действовать иначе, нежели ты са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toleranc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английский) – готовность быть терпимым, снисходительны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kuan ron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китайский) – позволять, принимать, быть по отношению к другим великодушны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tasamul’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(арабский) – прощение, снисходительность, мягкость, милосердие, сострадание, благосклонность, терпение, расположенность к други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tolera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испанский) – способность признавать отличные от своих собственных идеи или мн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пим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русский)– способность терпеть что-то или кого-то, быть выдержанным, выносливым, стойким, уметь мириться с существованием чего-либо, кого-либ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е оценивайте людей, а цените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562040" y="1600200"/>
            <a:ext cx="6019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95280" y="549360"/>
            <a:ext cx="835344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рпение, чувство юмора, непонимание, уважение мнения других, игнорирование, эгоизм, доброжелательность, умение владеть собой, нетерпимость, выражение пренебрежения, раздражительность, умение слушать собеседника, равнодушие, цинизм, понимание и принятие, чуткость, любознательность, гуманизм, немотивированная агрессивн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3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9640" y="764640"/>
            <a:ext cx="78487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11280" y="1484280"/>
          <a:ext cx="7632720" cy="4226040"/>
        </p:xfrm>
        <a:graphic>
          <a:graphicData uri="http://schemas.openxmlformats.org/drawingml/2006/table">
            <a:tbl>
              <a:tblPr/>
              <a:tblGrid>
                <a:gridCol w="3816360"/>
                <a:gridCol w="3816360"/>
              </a:tblGrid>
              <a:tr h="982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олерантная лич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олерантная лич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3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3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68000" y="765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11280" y="1413000"/>
          <a:ext cx="8208720" cy="4895640"/>
        </p:xfrm>
        <a:graphic>
          <a:graphicData uri="http://schemas.openxmlformats.org/drawingml/2006/table">
            <a:tbl>
              <a:tblPr/>
              <a:tblGrid>
                <a:gridCol w="4105080"/>
                <a:gridCol w="4103640"/>
              </a:tblGrid>
              <a:tr h="1049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олерантная лич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олерантная лич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6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рп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увство юм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важение мнения друг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брожела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мение владеть соб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мение слушать собеседн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нимание и прин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утк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юбозна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уманиз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поним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гнор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гоиз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терпим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ражение пренебре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дражи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внодуш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иниз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мотивированная агрессив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7:51:16Z</dcterms:created>
  <dc:creator>User</dc:creator>
  <dc:description/>
  <dc:language>en-US</dc:language>
  <cp:lastModifiedBy>User</cp:lastModifiedBy>
  <dcterms:modified xsi:type="dcterms:W3CDTF">2011-10-31T11:51:02Z</dcterms:modified>
  <cp:revision>12</cp:revision>
  <dc:subject/>
  <dc:title>Толерантность – дорога к миру</dc:title>
</cp:coreProperties>
</file>